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FEB4-9B74-4986-B181-47FEBEA9E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8A07-4A9F-4B2F-9EA0-30452A5B7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3ED5-4185-4B6B-A556-F60639EB0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0B9C-1360-4314-A35C-9B90778C4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6FFD-6738-45A4-A409-748AF7F51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E881-7C52-486E-8094-0ECA605F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68A7-7FB9-4899-BC2E-EEF1DBD9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A0B7-794F-4B8B-B972-C57CCC7A6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5646-1E90-4DB7-ACCB-4FD2E10CE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869-609B-44D4-BB3D-ABEE1A7D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80B-76B8-48AA-848C-9641091D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55D-95BB-4B13-87A5-C4C1C42F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006-93F3-4708-9FE8-E4395922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F7A-B5F8-4DFB-9276-DD3C5270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1E4-0677-41BD-AEA8-05578825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8D0-1742-4FAD-98B5-5EACF2B0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B3B-36F1-4376-A33B-B523275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65D-A807-476E-B36A-9AF6D1D6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EBD-AD82-4043-98BF-5C91CF0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B09-54B4-4495-8DAE-8DC09165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E63-E60E-4AF4-829A-05EBCAC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C559-F25C-4074-B68F-2829AA44B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to Plant Lima B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terials Need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 Plastic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ting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a 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a large spoon to fill your cup half-way with potting so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962520" y="3505320"/>
            <a:ext cx="3200400" cy="28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Cj02321670000[1]"/>
          <p:cNvPicPr/>
          <p:nvPr/>
        </p:nvPicPr>
        <p:blipFill>
          <a:blip r:embed="rId2"/>
          <a:stretch/>
        </p:blipFill>
        <p:spPr>
          <a:xfrm rot="17577600">
            <a:off x="5921280" y="1240920"/>
            <a:ext cx="244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1 lima bean and place it in the c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320040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er the lima bean with potting soil leaving some room at the top so it doesn’t spi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2300400" cy="205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MCj02321670000[1]"/>
          <p:cNvPicPr/>
          <p:nvPr/>
        </p:nvPicPr>
        <p:blipFill>
          <a:blip r:embed="rId2"/>
          <a:stretch/>
        </p:blipFill>
        <p:spPr>
          <a:xfrm rot="17577600">
            <a:off x="6526800" y="2388240"/>
            <a:ext cx="1500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your fingers to press the soil down so it is packed tigh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3886200" y="4038480"/>
            <a:ext cx="2604960" cy="232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 rot="15435000">
            <a:off x="6155640" y="1540440"/>
            <a:ext cx="1442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f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have finished, write and draw your   observations in your Observation Jour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MCj01993670000[1]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ix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place your plant in front of one of the letters at the back ta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2590560" cy="231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1790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21:02:49Z</dcterms:created>
  <dc:creator>Holly</dc:creator>
  <dc:description/>
  <dc:language>en-US</dc:language>
  <cp:lastModifiedBy>hcs</cp:lastModifiedBy>
  <dcterms:modified xsi:type="dcterms:W3CDTF">2010-06-17T15:02:33Z</dcterms:modified>
  <cp:revision>4</cp:revision>
  <dc:subject/>
  <dc:title>How to Plant Lima Beans</dc:title>
</cp:coreProperties>
</file>